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A58C-0D6F-4A5A-9926-B612D5AFF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B540-4651-402B-B8AF-B63312F21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AED7-06CA-42EF-AD80-F924BEC5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BE74-20D5-4BA1-B9A9-ECF799D8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7C44-FBB4-46A4-9B6E-C006DD73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5B23-2225-49A6-9B7E-008918F2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4395-440C-42F1-A60F-836F709B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EB3E-8457-434B-A4F8-BAFF1408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803E-C3E6-4BF9-8389-12AB91B5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95F9-73A9-435E-AD4E-D5CE44A4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982-5937-4AEE-9FC9-111CC8DF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2D0-7B01-428C-9D5F-AE0E56A8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4292-41BA-4E96-939F-D19DAD24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53E2-6DBD-45AF-83D0-0D53280A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08B0-9EB8-4662-9EA7-234C9D23BC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67B8-59FF-41CC-A4E3-F7F8720D0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ight Triangle 3"/>
          <p:cNvSpPr/>
          <p:nvPr/>
        </p:nvSpPr>
        <p:spPr>
          <a:xfrm flipV="1">
            <a:off x="-15480" y="0"/>
            <a:ext cx="7740720" cy="3610080"/>
          </a:xfrm>
          <a:prstGeom prst="rtTriangle">
            <a:avLst/>
          </a:prstGeom>
          <a:solidFill>
            <a:srgbClr val="ccccff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ight Triangle 4"/>
          <p:cNvSpPr/>
          <p:nvPr/>
        </p:nvSpPr>
        <p:spPr>
          <a:xfrm rot="10800000">
            <a:off x="4303800" y="-360"/>
            <a:ext cx="7888320" cy="5281560"/>
          </a:xfrm>
          <a:prstGeom prst="rtTriangle">
            <a:avLst/>
          </a:prstGeom>
          <a:solidFill>
            <a:srgbClr val="7030a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225440" y="2022480"/>
            <a:ext cx="7709040" cy="27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of Core Train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G Management of  Diabetes In Pregnanc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tenatal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rcRect l="24844" t="12660" r="40727" b="22364"/>
          <a:stretch/>
        </p:blipFill>
        <p:spPr>
          <a:xfrm>
            <a:off x="9315360" y="2665440"/>
            <a:ext cx="2675160" cy="404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graphicFrame>
        <p:nvGraphicFramePr>
          <p:cNvPr id="52" name=""/>
          <p:cNvGraphicFramePr/>
          <p:nvPr/>
        </p:nvGraphicFramePr>
        <p:xfrm>
          <a:off x="1015920" y="3978360"/>
          <a:ext cx="8128080" cy="2498760"/>
        </p:xfrm>
        <a:graphic>
          <a:graphicData uri="http://schemas.openxmlformats.org/drawingml/2006/table">
            <a:tbl>
              <a:tblPr/>
              <a:tblGrid>
                <a:gridCol w="4064040"/>
                <a:gridCol w="4064040"/>
              </a:tblGrid>
              <a:tr h="1127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. Nurain Mohd. No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Endocrinologi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ital Putraja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or Dr. Imelda Balch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Maternal Fetal Medici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iti Mala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. Ranjit Singh Dhalliw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tetrician &amp; Gynaecologi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ital Amp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. Nazatul Syima Idrus</a:t>
                      </a:r>
                      <a:br>
                        <a:rPr sz="18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rmacist &amp; Principal Assistant Director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rmaceutical Services Di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ry of Health Malays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SUL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97DB-312A-44E7-BAD7-A4BAB298B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400" spc="-1" strike="noStrike">
                <a:solidFill>
                  <a:srgbClr val="000000"/>
                </a:solidFill>
                <a:latin typeface="Arial"/>
                <a:ea typeface="Arial"/>
              </a:rPr>
              <a:t>Human insu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400" spc="-1" strike="noStrike">
                <a:solidFill>
                  <a:srgbClr val="000000"/>
                </a:solidFill>
                <a:latin typeface="Arial"/>
                <a:ea typeface="Arial"/>
              </a:rPr>
              <a:t>Insulin analog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ulin treatmen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9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6CCB-A1DD-45FF-BBE8-1CD87793D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Blood glucose targets are not met after MNT and metformin thera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Metformin is contraindicated or unaccep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FPG ≥7.0 mmol/L at diagnosis (with or without metform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FPG of 6.0-6.9 mmol/L with complications such as macrosomia or polyhydramnios (start insulin immediately, with or without metformin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ons for insulin initia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94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5F74-A5D4-4B3A-BF42-B2ED96650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Both short acting (regular) and intermediate or long acting (NPH) have been established in diabetes pregnanc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Human insulin was labelled as FDA pregnancy category 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In the local setting, human insulin is the preferred choice of insulin in view of its cost and availabil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man Insuli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9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F0B5-258F-47F2-9FCF-A984BA7FF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Insulin analogues mimic natural insulin physiolog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Rapid and long acting (basal) - currently used in pre-existing diabetes during pregnancy and GD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FDA pregnancy catego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Category B for Insulin lispro and asp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Category C for Insulin glulisine and glarg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ulin Analogues</a:t>
                      </a:r>
                      <a:r>
                        <a:rPr b="1" lang="en-MY" sz="4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02" name="Rectangle 2"/>
          <p:cNvSpPr/>
          <p:nvPr/>
        </p:nvSpPr>
        <p:spPr>
          <a:xfrm>
            <a:off x="0" y="5827680"/>
            <a:ext cx="1219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0240" indent="-12002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1600" spc="-1" strike="noStrike">
                <a:solidFill>
                  <a:srgbClr val="000000"/>
                </a:solidFill>
                <a:latin typeface="Arial"/>
              </a:rPr>
              <a:t>Category B</a:t>
            </a:r>
            <a:r>
              <a:rPr b="0" lang="en-MY" sz="1600" spc="-1" strike="noStrike">
                <a:solidFill>
                  <a:srgbClr val="000000"/>
                </a:solidFill>
                <a:latin typeface="Arial"/>
              </a:rPr>
              <a:t>: Animal studies have failed to demonstrate a risk to the fetus and there are no adequate and well-controlled studies in pregnant wom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00240" indent="-12002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1600" spc="-1" strike="noStrike">
                <a:solidFill>
                  <a:srgbClr val="000000"/>
                </a:solidFill>
                <a:latin typeface="Arial"/>
              </a:rPr>
              <a:t>Category C</a:t>
            </a:r>
            <a:r>
              <a:rPr b="0" lang="en-MY" sz="1600" spc="-1" strike="noStrike">
                <a:solidFill>
                  <a:srgbClr val="000000"/>
                </a:solidFill>
                <a:latin typeface="Arial"/>
              </a:rPr>
              <a:t>: Animal studies have shown an adverse effect on the fetus and adequate and well-controlled studies in humans were not availab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C761-8B18-4BD7-A8C9-6A8F2CD01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Both rapid- and long-acting (basal) - as efficacious as human insulin in pre-existing diabetes and G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Insulin analogues are associated with fewer incidences of hypoglycaem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Long-acting analogues have benefit in diabetic pregnant women with repeated nocturnal hypoglycaem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All insulin are considered safe and have low risk in pregna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4410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Except for insulin glulisine and glargine -  should be given only when potential benefit outweigh the potential ri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ulin Analogues</a:t>
                      </a:r>
                      <a:r>
                        <a:rPr b="1" lang="en-MY" sz="4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07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6763-E019-472A-9F28-DFC36D8B0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2809800"/>
          <a:ext cx="5722920" cy="909720"/>
        </p:xfrm>
        <a:graphic>
          <a:graphicData uri="http://schemas.openxmlformats.org/drawingml/2006/table">
            <a:tbl>
              <a:tblPr/>
              <a:tblGrid>
                <a:gridCol w="5722920"/>
              </a:tblGrid>
              <a:tr h="909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ypes of Insuli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pic>
        <p:nvPicPr>
          <p:cNvPr id="110" name="Picture 2" descr=""/>
          <p:cNvPicPr/>
          <p:nvPr/>
        </p:nvPicPr>
        <p:blipFill>
          <a:blip r:embed="rId1"/>
          <a:srcRect l="0" t="872" r="3306" b="0"/>
          <a:stretch/>
        </p:blipFill>
        <p:spPr>
          <a:xfrm>
            <a:off x="5257800" y="-162000"/>
            <a:ext cx="6981840" cy="7274160"/>
          </a:xfrm>
          <a:prstGeom prst="rect">
            <a:avLst/>
          </a:prstGeom>
          <a:ln w="0">
            <a:noFill/>
          </a:ln>
        </p:spPr>
      </p:pic>
      <p:sp>
        <p:nvSpPr>
          <p:cNvPr id="111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31C6-FE5D-4334-B367-301AB892A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3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sulin initiation - after MNT and metformin failed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1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244440" y="1812960"/>
            <a:ext cx="11847600" cy="327168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C991-4E12-4473-B31A-54F8CE2AC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lood glucose targ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17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20680" y="2309760"/>
            <a:ext cx="11720520" cy="226224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7203-1F38-48A8-BB04-4D0C67FB2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commendation 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21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nsulin therapy can be initiated at outpatient setting in pregnant women with diabe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The preferred choice of insulin regime in diabetes in pregnancy is multiple daily inj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nsulin analogues should be continued during pregnancy in women with pre-existing diabetes who are already on the treatment and have established good blood glucose control before pregna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Rapid-acting insulin analogue may be considered as an option, particularly in patients with frequent hypoglycaemia or post-prandial hyperglycaemia using human insulin during pregnanc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852E-3771-43FF-81B3-3FF6BE14C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62040" y="1355760"/>
            <a:ext cx="109411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al antidiabetic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sulin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ypes of insu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to initi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le of insulin analog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l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55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41E7-4E4E-4E88-A377-77AF2ACB1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clusion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25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Metformin is safe and recommended after failed 1 - 2 weeks of M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Insulin is indicated to achieve glycaemic 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Insulin can be initiated as outpatient with self-ti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Insulin analogues are beneficial to reduce hypoglycae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CA23-D1BB-4E3E-9F0E-D64C0EF9C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86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EFERR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2A3A-2F0A-4C1C-B934-99ED696D6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ferral to secondary/tertiary car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Why ref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For continuous specialist care to detect complications, review medications and optimise glycaemic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Who should be refer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ll women with pre-existing diabe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Women with GDM who have poor glycaemic control and fetal 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Referral to a dietitian to ensure balanced diet and achievement of good glycaemic contr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2D74-A712-4861-81D2-B897E6799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commendation 1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36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Pregnant women with pre-existing diabetes and women with GDM who have poor glycaemic control or fetal complications should be referred to secondary or tertiary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C09E-27B8-4622-B380-C08223805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86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-ECLAMPSIA PROPHYLAX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AC0F-EBD4-46BC-B702-3635D76D4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-eclampsia Prophylaxis</a:t>
                      </a:r>
                      <a:r>
                        <a:rPr b="1" lang="en-MY" sz="4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43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Pregnant women with pre-existing diabetes have a </a:t>
            </a:r>
            <a:r>
              <a:rPr b="1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five-fold increased risk of pre-eclampsia </a:t>
            </a: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(OR=5.74, CI 95% 5.31 to 6.20) compared to women without diabetes.</a:t>
            </a:r>
            <a:r>
              <a:rPr b="0" lang="en-MY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3240" y="6273720"/>
            <a:ext cx="1219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53. Persson M, Cnattingius S, Wikström AK, et al. Maternal overweight and obesity </a:t>
            </a:r>
            <a:r>
              <a:rPr b="0" lang="en-MY" sz="1600" spc="-1" strike="noStrike">
                <a:solidFill>
                  <a:srgbClr val="000000"/>
                </a:solidFill>
                <a:latin typeface="Arial Narrow"/>
              </a:rPr>
              <a:t>and risk of pre-eclampsia in women with type 1 diabetes or type 2 diabetes.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iabetologia. 2016;59(10):2099-210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23D1-6815-4CD7-8ED9-F74AA2BB1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-eclampsia Prophylaxis</a:t>
                      </a:r>
                      <a:r>
                        <a:rPr b="1" lang="en-MY" sz="4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A large RCT on women with pre-existing diabetes 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low dose aspirin (60 mg) is safe but did not reduce the risk of pre-eclamp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In 3 multicentre RCTs on women with pre-existing diabetes, supplementation of vitamin C and E did not reduce the risk of preeclampsia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There is no evidence to support the use of calcium supplementation in diabetes in pregna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9DF2-CD69-4A1A-B182-44ACCAF4C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commendation 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Low dose aspirin (75 - 150 mg daily) should be given to prevent pre-eclampsia in women with pre-existing diabetes from 12 weeks of gestation until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Vitamin C and E supplementation should not be given to prevent pre-eclampsia in women with diabe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799D-8D1C-4D74-984C-98E71DADB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2206440"/>
            <a:ext cx="1219212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SSESSMENT OF DIABETES COMPL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89AE-F7E7-4265-BA37-0FA1A1F4F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inal Assessmen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 txBox="1"/>
          <p:nvPr/>
        </p:nvSpPr>
        <p:spPr>
          <a:xfrm>
            <a:off x="267840" y="1117440"/>
            <a:ext cx="1157148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NICE Guidel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Pregnant women with pre-existing diabetes should receive retinal assessment at boo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f normal, repeat at 28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If abnormal, refer to ophthalm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n a population-based study on pre-existing diabetes, significant factors associated with progression of retinopathy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higher systolic blood pressure during bo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higher HbA1c at first trimester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greater drop of HbA1c between first and third trimester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6276960"/>
            <a:ext cx="1219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600" spc="-1" strike="noStrike">
                <a:solidFill>
                  <a:srgbClr val="000000"/>
                </a:solidFill>
                <a:latin typeface="Arial Narrow"/>
              </a:rPr>
              <a:t>64. Egan AM, McVicker L, Heerey A, et al. Diabetic retinopathy in pregnancy: a population-based study of women with pregestational diabetes. J Diabetes Res.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2015;2015:31023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375D-EB76-4542-989C-F6843AAFD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RAL ANTIDIABETIC AG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9145-63FF-49AB-BEB0-5453979C7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nal Assessmen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f renal assessment has not been done in the preceding 3 months in women with pre-existing diabetes, arrange it during the first antenatal vis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Referral to a nephrologist should be considered when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serum creatinine is abnormal (120 μmol/L or more); esti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glomerular filtration rate should not be used during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the urinary albumin: creatinine ratio (ACR) &gt;30 mg/mm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total protein excretion exceeds 0.5 g/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0" y="6291360"/>
            <a:ext cx="1219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600" spc="-1" strike="noStrike">
                <a:solidFill>
                  <a:srgbClr val="000000"/>
                </a:solidFill>
                <a:latin typeface="Arial Narrow"/>
              </a:rPr>
              <a:t>6. National Collaborating Centre for Women’s and Children’s Health (UK). Diabetes in pregnancy: management of diabetes and its complications from reconception to the postnatal period. London: NICE; 201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8880-DB47-49E8-9EB1-89C13D746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commendation 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69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In women with pre-existing diabet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retinal assessment should be performed at booking and repeated at least once throughout the pregnan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renal assessment should be performed at booking; those with pre-existing renal disease should be managed in a combined cli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928A-C499-47C5-B225-2B2F30A13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2206440"/>
            <a:ext cx="1219212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ETAL SURVEILL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A27C-D248-428A-9000-3F9539365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tal Surveillanc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847880" y="1219320"/>
            <a:ext cx="9110520" cy="5289480"/>
          </a:xfrm>
          <a:prstGeom prst="rect">
            <a:avLst/>
          </a:prstGeom>
          <a:ln w="0">
            <a:noFill/>
          </a:ln>
        </p:spPr>
      </p:pic>
      <p:sp>
        <p:nvSpPr>
          <p:cNvPr id="177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BECA-2632-4C9C-B5D3-425374085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commendation 1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80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Pregnant women with pre-existing diabetes should be offered ultrasound scan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11-14 weeks of gestation for dating and assessment of major structural mal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18-20 weeks of gestation for detailed structural anatomy scan (by a trained specialist or sonograp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n pregnant women with pre-existing diabetes and gestational diabetes mellitus, serial growth scan should be performed every four weeks from 28 to 36 weeks of ges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C171-8CCF-40FF-94CC-F322ECFBD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2206440"/>
            <a:ext cx="1219212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IMING AND MODE OF DELIV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711A-3C5E-4B6C-AF4D-C3E1EACFF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iming and Mode of Deliver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87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In 2 systematic reviews on GDM and pre-existing T2DM requiring insulin, active IOL at 38 weeks gestation vs expectant management until 42 week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123920" indent="-5713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Reduced the risk of macroso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123920" indent="-5713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No significant increase in rates of caesarean section, shoulder dystocia, neonatal hypoglycaemia or perinatal death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4CFA-0945-4298-A405-E3FF0D868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commendation 1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49280" y="1347840"/>
          <a:ext cx="11390400" cy="5002200"/>
        </p:xfrm>
        <a:graphic>
          <a:graphicData uri="http://schemas.openxmlformats.org/drawingml/2006/table">
            <a:tbl>
              <a:tblPr/>
              <a:tblGrid>
                <a:gridCol w="2297160"/>
                <a:gridCol w="4922640"/>
                <a:gridCol w="4170600"/>
              </a:tblGrid>
              <a:tr h="712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d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9889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-existing diabe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9684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 complic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604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37+0 and 38+6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9684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maternal or fetal complic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604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 37+0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D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9684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diet alone with no complic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604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 40+0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9684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oral antidiabetic agents or insul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604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37+0 and 38+6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96840" indent="-9684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maternal or fetal complic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604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 37+0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A667-008B-44ED-A88B-58749D3C5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commendation 1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95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Mode of delivery should be individualised, taking into consideration the estimated fetal weight and obstetric facto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Women with diabetes who receive antenatal corticosteroids for fetal lung maturation should have close monito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745E-1C90-4A49-8177-5194AF367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2206440"/>
            <a:ext cx="1219212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E6F6-D2FD-4F3B-898C-5DC54273E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75760" y="108720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formin and glibenclamide have been used in G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Pregnancy Categ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y B for Metfor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y C for Glibenclamid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DM, start  metforminif blood glucose targets are not met after diet and exercise within 1-2 wee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metformin in women who are already on treatment before pregna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l antidiabetic agents</a:t>
                      </a:r>
                      <a:r>
                        <a:rPr b="1" lang="en-MY" sz="4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62" name="Rectangle 2"/>
          <p:cNvSpPr/>
          <p:nvPr/>
        </p:nvSpPr>
        <p:spPr>
          <a:xfrm>
            <a:off x="0" y="5827680"/>
            <a:ext cx="1219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0240" indent="-12002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1600" spc="-1" strike="noStrike">
                <a:solidFill>
                  <a:srgbClr val="000000"/>
                </a:solidFill>
                <a:latin typeface="Arial"/>
              </a:rPr>
              <a:t>Category B</a:t>
            </a:r>
            <a:r>
              <a:rPr b="0" lang="en-MY" sz="1600" spc="-1" strike="noStrike">
                <a:solidFill>
                  <a:srgbClr val="000000"/>
                </a:solidFill>
                <a:latin typeface="Arial"/>
              </a:rPr>
              <a:t>: Animal studies have failed to demonstrate a risk to the fetus and there are no adequate and well-controlled studies in pregnant wom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00240" indent="-12002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1600" spc="-1" strike="noStrike">
                <a:solidFill>
                  <a:srgbClr val="000000"/>
                </a:solidFill>
                <a:latin typeface="Arial"/>
              </a:rPr>
              <a:t>Category C</a:t>
            </a:r>
            <a:r>
              <a:rPr b="0" lang="en-MY" sz="1600" spc="-1" strike="noStrike">
                <a:solidFill>
                  <a:srgbClr val="000000"/>
                </a:solidFill>
                <a:latin typeface="Arial"/>
              </a:rPr>
              <a:t>: Animal studies have shown an adverse effect on the fetus and adequate and well-controlled studies in humans were not availab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36F1-93BC-4C8A-BF4E-5E74F86CB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12760" y="1282320"/>
            <a:ext cx="1157112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In a meta-analysis, metformin vs glibenclamide show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metformin had significantly lower maternal weight gain, neonatal birth weight, macrosomia and L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no significant difference in glycaemic control (FPG and post-prandial plasma glucose), caesarean section, preterm birth, stillbirth and neonatal hypoglycaem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l antidiabetic agents</a:t>
                      </a:r>
                      <a:r>
                        <a:rPr b="1" lang="en-MY" sz="4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67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EEFB-6294-4513-B4F2-84CA620B6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Four meta-analyses on GDM showe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OAD vs insul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no significant difference in glycaemic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Metformin vs insul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Metformin associated with less maternal weight gain but higher premature birth (&lt;37 weeks gest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l antidiabetic agents</a:t>
                      </a:r>
                      <a:r>
                        <a:rPr b="1" lang="en-MY" sz="4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71" name="Footer Placeholder 2"/>
          <p:cNvSpPr/>
          <p:nvPr/>
        </p:nvSpPr>
        <p:spPr>
          <a:xfrm>
            <a:off x="4038480" y="64674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9623-0441-448E-861D-0588DD7E6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Glibenclamide vs insulin, glibenclamide was found to be associated with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123920" indent="-5713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less maternal hypoglycaemia but higher maternal weight 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123920" indent="-5713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higher macrosomia, neonatal birth weight and neonatal hypoglycaemia for neonatal outc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l antidiabetic agents</a:t>
                      </a:r>
                      <a:r>
                        <a:rPr b="1" lang="en-MY" sz="4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75" name="Footer Placeholder 2"/>
          <p:cNvSpPr/>
          <p:nvPr/>
        </p:nvSpPr>
        <p:spPr>
          <a:xfrm>
            <a:off x="4038480" y="64674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3B6C-7F52-4E4E-ACE3-1D64A982E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1680" y="25560"/>
          <a:ext cx="12060360" cy="107784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77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l antidiabetic agents</a:t>
                      </a:r>
                      <a:r>
                        <a:rPr b="1" lang="en-MY" sz="4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7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-22320" y="2084400"/>
            <a:ext cx="12122280" cy="3000240"/>
          </a:xfrm>
          <a:prstGeom prst="rect">
            <a:avLst/>
          </a:prstGeom>
          <a:ln w="0">
            <a:noFill/>
          </a:ln>
        </p:spPr>
      </p:pic>
      <p:sp>
        <p:nvSpPr>
          <p:cNvPr id="80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10FF-B579-4AD7-8E99-8D6D45CCA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In GDM, metformin should be offered when blood glucose targets are not met using changes in diet and exercise within 1-2 wee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It should be prescribed after consultation with specialis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Metformin should be continued in women who are already on the treatment before pregnanc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mmendation 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8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63F9-A953-47BE-9CB7-A2C4AF7A0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03:30:34Z</dcterms:created>
  <dc:creator>Norasyikin A Wahab</dc:creator>
  <dc:description/>
  <dc:language>en-US</dc:language>
  <cp:lastModifiedBy>Ainol</cp:lastModifiedBy>
  <dcterms:modified xsi:type="dcterms:W3CDTF">2018-07-19T06:33:57Z</dcterms:modified>
  <cp:revision>139</cp:revision>
  <dc:subject/>
  <dc:title>PowerPoint Presentation</dc:title>
</cp:coreProperties>
</file>